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B56D-CA01-4283-8EAF-5D4C58913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3870-F72D-4A72-9E0A-9AD65F75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3E27-F2F8-4BD8-A33B-3A06F674D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59D4-F9FF-4B43-B072-6D6E6558E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2900-ED2D-49B7-A57C-2629A397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0064-4FD2-43C7-B25E-86397B2F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3A3B-C436-4033-AD63-28B76BFE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0E4D-AD63-4D12-A71A-C9AA3B0F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B2B1-0C79-429F-AB2A-3539A214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62BC-4A52-4261-9126-41C1A452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0458-B4D6-4ABB-AC43-CB95FE8A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CB68-04C3-4842-8A25-DA1BBEA8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F73E-62AC-4EE0-AD4C-91C6C86EF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NORSZÁ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635280" y="2133720"/>
            <a:ext cx="1633680" cy="1752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463840" y="5229360"/>
            <a:ext cx="43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észítette: Kovács Vero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813744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zau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zauna finn eredetű sz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innek szerint fürdési lehetőséget biztosító h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456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sin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egnagyobb város Finnországban, fővá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tt található Finnország legnagyobb állatkertje, a Finlandia Palota,a Dó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elsinki egybeépült három újabb-keletű várossal, Espooval, Vantaaval és Kauniainen-n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Összehangolt közleked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ikötővá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788000" y="2133720"/>
            <a:ext cx="4032000" cy="27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ur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egősibb kikötővá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mzetközi repülőtér van i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tt található a TELESTE gyár, mely a kábeltelevízió hálózati építőelemeit készí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innország nagyobb városai közé tartoz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572000" y="1916280"/>
            <a:ext cx="435600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iz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m tartozik Európa jelentős idegenforgalmi célpontjai köz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utazó fogalom nagyobb, mint a beutaz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nyolország a legkedveltebb célp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vente összesen 6 millió szabadidős utazás. 5 millió konferenciaút. Magyarország is célp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yarországról évente 5.200 fő érkezik, 10.000éjszakát tölt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finneknek pozitív képük van Magyarországról,bár csak 16%-uk járt nálunk, 8%-nak van ismerőse it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innországba érkezők – magas köl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Gyógyturizmust és a konferenciaturizmust lehet fejleszten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eutazók 70%-a nyaralni jön 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látogatók 65%-a férf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záll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n szállodákhoz hozzátartozik a szauna és az úszómedence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árak tartományonként más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sinkiben és Lapföldön a legdrágáb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yáron a diákszállók is igénybe vehető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eskedelmi szálláshelyet igénybevevők száma 2004 után már több volt,mint 4.406.000 f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124000" y="981000"/>
            <a:ext cx="4608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két ország kapcsol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tlevéllel vagy személyi igazolvánnyal szabadon beutazhatunk Finnország területé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árom havi ott tartózkodás esetén tartózkodási engedély k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ós állampolgár ha 3 hónapnál tovább marad, tanulási célból, regisztráltatnia kell magát a rendőrség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inneknél van magyar nagykövetség és nálunk is van finn nagykövetsé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ÖSZÖNÖM A FIGYELME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635280" y="3213000"/>
            <a:ext cx="1724040" cy="18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Általános információk 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vatalos elnevezés: Finn Köztársasá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öldrajzi elhelyezkedés: Az ország a Balti öbölben, Svédország és Oroszország között terül el. Északon egy rövid szakaszon Norvégiával is hatá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reenwichi alapidőtől a második zónában találhat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ülete: 338.145k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yharmada az északi sarkkörön túl van. Hatodik legnagyobb területű ország Európáb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Általános információk I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akosság: 93,4% finn, 5,9% svéd, ezenkívül lapp és orosz nyelvűek élnek itt. Népsűrűség: 16,8 fő négyzet-kilométerenként. Az országot mindössze öt millió ember lak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özigazgatási beosztás: 6 tartomá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allás: 98% evangélikus, 1% ortodox, 9% nem vallásos, 1% egyéb vallás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ivatalos nyelv: a fi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ivatalos pénz:  Eu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655164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Általános információk II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omborzat: 65% erdő, 10% tó (200.000 tó), 8% megművelt terület, a fennmaradó 17% a városoké, iparterületek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Állatvilág: emlősök közül 67 faj él itt, sok a róka, prémes állatok, medve, farkas, jávorszarvas – fontos háziáll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Éghajlat: Kontinentális égh.uralkodik és az atlanti övezet határán fekszik. Fél évig tél van. Tavasz, ősz röv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Északon 70 napig nem megy le a nap nyáron, télen pedig 50 napig nem jön f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70544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zdasá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arosított, nagyban szabadpiacú orszá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as az életszínvonal. A finn GDP és adó jelentős részét a Nokia cég ad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ő gazdasági szektor az ip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DP: 102,1 milliárd U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DP/fő: 20.000 U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fontosabb iparágak: fafeldolgozás, fémipar, telekommunikáció, vas-, acél-, színesfémkohászat, textilipar, hajógyárt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eskedelmi partnerek: Németország, Nagy Britannia, Svédország, Oroszorszá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özleke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asutak hossza: 5.863 km, ebből 1.445km villamosítot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zutak hossza: 76.755km, ebből 318 km autópály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elföldi víziút: 6.100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Legfontosabb kikötők:  Helsinki, Turku, Ou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emzetközi repülőterek: Helsinki, Turku,Tampere, Po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Ünnep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nagyobb tisztelet: Függetlenség Napja (dec.6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zent Iván ünnepe: június 2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Ünnepeket nem ünneplik szabadnappal ezért az iskolásoknak van egy hét gomba, gyümölcs szedő és horgász valamint sí szü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yáron: fesztiválok ideje. Operák, kamarazene, jazz, rock, színházi előadások. Sok látogat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telek - Italok: kedveltek a gombák, pontyfélék, lazac, fekete áfony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15:03:27Z</dcterms:created>
  <dc:creator>Vaszkó György</dc:creator>
  <dc:description/>
  <dc:language>en-US</dc:language>
  <cp:lastModifiedBy>Vaszkó György</cp:lastModifiedBy>
  <dcterms:modified xsi:type="dcterms:W3CDTF">2006-05-03T15:57:58Z</dcterms:modified>
  <cp:revision>38</cp:revision>
  <dc:subject/>
  <dc:title>FINNORSZÁG </dc:title>
</cp:coreProperties>
</file>